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83F-BCCE-41FC-BAEC-1199FDD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055-C71F-4275-9457-CE6A83E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56270-23DA-4180-ABEC-EA831CB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2561C-B67F-4BF6-99E2-608CC5C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F3020-293A-49ED-8815-1B2B07C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28E48-E1A4-4B4D-B83E-1CBE694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34724-F520-4B71-8B4A-B26BD60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7CAE1-279E-41C7-8C40-5231672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86157-D872-443A-95B8-85B5528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202E-1312-4E5E-8D8B-C7469512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2BCE4-CB32-467B-851A-FEAA64CC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07C87-9D84-4FAE-99DD-432C40D2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861-2746-45A3-9B90-6DE074F3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4237E-9645-4D49-A9A0-96AA40C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47BDE-AD6E-47CA-8BAD-DD83E835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A4C39-C6CE-4274-B1DA-40DECB9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4453F-3171-45AF-A88E-72C056D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A8EE3-9C6C-4020-B304-8A64126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08E05-8164-4A88-A379-C566D25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4401A-3A04-477D-9B8E-F03E671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A658B-A1E6-401C-9E22-5FEEA95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BA18-80D4-4A0F-AAA1-5C13CFEF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813D3-AD8E-4149-A01D-15B9B461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61D-2808-4795-BD93-D66FCA9B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691B8-5C70-43DD-A623-C8842104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AE1DF-4ED1-43C4-A6AB-4803A038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8A4B-FC4E-4CBF-9874-907A8F42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147D2-9FA0-489D-97DC-BE74ACC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EBDB-1E6E-40F2-8D4D-CBD771C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D9A6-0FED-41CB-A84F-F42FC90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260E1-D98B-4E15-8840-8BC61BC2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0E2B4-E880-4A78-AED1-9A45BB1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E02D-D45A-46A8-884E-95A0118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2D4B-F91F-4C21-8176-5A5A52D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22C-AB86-4F56-9216-1AC1E864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856C-A0E0-4BEC-A59E-2B7637E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492E1-8E23-46ED-9682-A8D5B01F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26BAD-7DF9-4B61-B8A5-2C1C532B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7D521-0147-46C8-85AF-8BBE821B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9B7DF-F954-498A-A893-8F38E3D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96C21-89CE-4887-8945-FBDA488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25E4-EC7C-477B-A3F6-34AAB520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7C923-5DA4-441D-90DB-22588464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DB51A-DF4C-4C5D-8755-D6136117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9D0D-8C04-4E08-9726-54A2CBB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9BCE-C978-4D43-BAB4-9ADF613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46EC4-924D-487F-B458-C11BB8C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19055-3EC1-42A6-B750-603BF86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B76A3-6273-4733-9241-AF919FF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969F3-7301-4C6D-B837-15846879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E4AF0-97BB-4575-AAA7-29BFE4DC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978C-6AF7-45F4-B3A3-2E5EB67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67B4-EF16-4651-8283-BFA5989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001-FA2F-4151-AD53-BBA08E6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1C3-DB17-41EB-B5EE-1A05E41D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474-9EF4-4E72-9F19-BA74336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82B-6936-4E0E-8ABA-518DC86F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9C17-A843-4A11-8678-B76ECBB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4C1F-50F1-4381-BF8D-E3CF16E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D960-4927-46A8-AE1A-BED70ED6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459-7081-44EE-AE52-4BA3CBD3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403-DE45-4BDB-A08C-DA0450D7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3B77-AA3F-4CF8-A2E7-C949AECA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62C1-4AD5-4321-9756-FB521AA9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E724-C57C-40AE-9244-CE995DC6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3404-B94E-4738-A765-8298860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158B-EE3C-4939-981C-BF2B736B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A33-6C03-496C-ADB2-FF5D492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7FE2-B2CC-494A-8B4C-D7FCBE83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E53A-DB45-4C43-8E97-DD999D5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C285-5C6F-4120-ABCA-9A8286B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7628-1AD0-4210-9897-06486D3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337A-73A9-40E6-B935-AE8CEBD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A7FC-05A6-4E30-849E-55037810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7AA5-7BBC-4918-97CA-716F032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72D9-1DDA-45F6-928B-F2C5EFD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7F73-EB6F-4777-9055-31A1468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2373-00B7-4F68-9E2F-69184FBC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ED4-3588-4063-9949-D836D0D0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DFBF-438C-46B5-9F93-3777613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2F66-2899-492C-878F-81BD7A66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5920-31F3-44C0-A05A-9A4E6FB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1C3F-922F-4D9F-80E3-AF97DC1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699D-2433-4FFB-9C54-42A2BC1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F0DE-E5BC-40E1-A95D-364BA57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40D8-2C5A-4F3C-9A58-A7181E4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AC67-2E40-42D1-B408-5EAADCE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BB9F-49D5-4D92-85FA-DAFC1080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42A4-A264-4AF3-ABA3-CBF24C15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973-0499-4B75-9241-72B2E00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2495-BA79-4378-8CF1-A6B8F29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E9AA-F9B9-4998-B8F0-358313C0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8EA5-41F2-4BD4-974F-88AB41D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6D9A-0ADD-40BF-A35D-E9C05218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F596-B9C4-4A79-A7DF-A06F345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2BA6-8F06-47B8-B4D3-D9C38C9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E51F-6906-4878-8DAD-B6F758C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27AD-3DF0-4F11-9C04-0B28F5F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EDF6-0A70-4480-966E-54D5922A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940E-577C-4DDE-AEDE-80C98E29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264-0B19-4CD0-BA34-52E67EA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1E81-8C1C-40C6-B24B-22B312E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14C2-7635-49AC-855F-EF9574FD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AA0B-7883-4089-B3AB-444ABF4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2C57-791D-4E2D-A5F4-DBEE1158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15E3-820E-47E6-8C6B-69849E7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159C7-AE0B-477E-A6AA-C3B288BC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EF4F-9566-4D2F-8234-CABE0FA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66782-55E0-4363-A5D0-7EB2852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3093-7103-4723-9434-8E4FBA2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3066-017E-46FC-9D08-D72461F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A91-778C-401C-B1A3-1099792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4F2E-EB93-4B68-B1F1-820E4FB4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B726-41B5-4A41-B53A-A4EE9754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7F17-00C4-46FB-883C-0BAA863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23E16-37ED-4C76-B753-D18C247A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26BF7-9C86-439B-8CDC-7DBE137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5B75-4BC7-4DE5-91D0-B392D94E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4F559-2049-42A4-B572-92C14CC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1067-5657-45EE-9115-C102248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1ADD-903A-47AA-853B-A512EEC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E227-FD63-480B-8548-4192F12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FD3-1A27-42B6-83B0-E906E44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6922D-0700-4E94-82E4-B523A9F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7EB9-08A0-45A7-9CA4-B9A3811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E7A9-35A0-4D48-A579-ACC313D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8E69-0E41-44B7-8364-F1B9CA3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A365B-F870-4312-8909-1E43417E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7864-BA3E-434E-8BF4-A354323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69DBE-85AB-4029-8EF6-81D2B4D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99E2-DF49-46C7-8C22-1AD440E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CF8C-DB44-4B8A-853D-8762558A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DB91-83C5-4FD8-BDDE-CA0F59E5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389-3E1A-43C5-9943-9B482B6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8731-5932-499B-A6AC-2B16BCB4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76CD-7C24-4169-BD86-8BC3F03B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8FE6-75AF-468A-A27C-0C8CF3C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A201-146D-4942-9D5D-ACBEEDB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5946-4E51-4643-B126-50874B4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8AF1-1B4D-4206-9483-AAEC18F6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53AD5-18D5-4E23-8459-B956EC0F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2F7E-1359-4543-8C44-3A409F4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8C91B-D864-4381-9094-3613F1D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DD0F-3E91-40E0-946C-B57730B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4C1-6C56-4779-8FCA-00B24F07EE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AA1B-DFE0-49EE-B60D-1DDFE9FCBB9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3EC-A26F-4549-98F6-FC55347311E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052-885B-495D-8BB0-27AB4E721C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C30-0AFB-400D-8491-AAAA5AD6AB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E45-F89A-41A5-A758-0C3995D1F28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E19-5776-4AB2-80FC-A4CF4F7004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68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A5A-097F-4F66-AE45-A4585FDAD3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71E-F9AA-4662-8B8B-C924F53DAD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0FE-90EE-4710-B574-6BDC738C416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9CA-758C-48CC-9A06-C958DEEDECA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7B2-6425-483B-BEC4-C55871FF32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tr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2"/>
          <p:cNvSpPr/>
          <p:nvPr/>
        </p:nvSpPr>
        <p:spPr>
          <a:xfrm>
            <a:off x="340920" y="1523880"/>
            <a:ext cx="7270200" cy="1099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sila trenja između sanduka težine 300 N i pod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ktor trenja između sanduka i poda iznosi 0,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990720" y="2819520"/>
            <a:ext cx="44193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00 N;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t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t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0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Slika 1" descr=""/>
          <p:cNvPicPr/>
          <p:nvPr/>
        </p:nvPicPr>
        <p:blipFill>
          <a:blip r:embed="rId1"/>
          <a:stretch/>
        </p:blipFill>
        <p:spPr>
          <a:xfrm>
            <a:off x="281160" y="102384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263160" y="1676520"/>
            <a:ext cx="68252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vedi primjere kad je trenje korisno i nepoželj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sila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iskazujemo faktorom tren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446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gume automobila zagriju pri koč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hodati po asfaltu nego po le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657600" cy="2739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64292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Sila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 tr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3"/>
          <p:cNvSpPr/>
          <p:nvPr/>
        </p:nvSpPr>
        <p:spPr>
          <a:xfrm>
            <a:off x="428760" y="1447920"/>
            <a:ext cx="74433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Tr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ežava klizanje ili kotrljanje jednog tijel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i drug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djeluje suprotno od smjera gibanja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"/>
          <p:cNvGrpSpPr/>
          <p:nvPr/>
        </p:nvGrpSpPr>
        <p:grpSpPr>
          <a:xfrm>
            <a:off x="1236240" y="5486400"/>
            <a:ext cx="4582080" cy="633240"/>
            <a:chOff x="1236240" y="5486400"/>
            <a:chExt cx="4582080" cy="633240"/>
          </a:xfrm>
        </p:grpSpPr>
        <p:sp>
          <p:nvSpPr>
            <p:cNvPr id="512" name="TextBox 4"/>
            <p:cNvSpPr/>
            <p:nvPr/>
          </p:nvSpPr>
          <p:spPr>
            <a:xfrm>
              <a:off x="1236240" y="5553000"/>
              <a:ext cx="311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znaka za silu trenj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Straight Arrow Connector 22"/>
            <p:cNvCxnSpPr/>
            <p:nvPr/>
          </p:nvCxnSpPr>
          <p:spPr>
            <a:xfrm>
              <a:off x="4495680" y="5790960"/>
              <a:ext cx="5007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14" name="Object 2"/>
                <p:cNvSpPr txBox="1"/>
                <p:nvPr/>
              </p:nvSpPr>
              <p:spPr>
                <a:xfrm>
                  <a:off x="5105880" y="5486400"/>
                  <a:ext cx="71244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603720" y="85716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na tijelo pri guranju ili vuče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935640" y="4800600"/>
            <a:ext cx="7171200" cy="1373400"/>
          </a:xfrm>
          <a:prstGeom prst="rect">
            <a:avLst/>
          </a:prstGeom>
          <a:noFill/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ila trenja ima isti iznos kao i sila koja gura tije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a suprotno je usmjere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581560" cy="1895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5467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430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Trenje klizanja i kotrlj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54726"/>
          <a:stretch/>
        </p:blipFill>
        <p:spPr>
          <a:xfrm>
            <a:off x="762120" y="2048040"/>
            <a:ext cx="3581280" cy="1228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2"/>
          <a:srcRect l="0" t="41796" r="0" b="0"/>
          <a:stretch/>
        </p:blipFill>
        <p:spPr>
          <a:xfrm>
            <a:off x="4952880" y="1752480"/>
            <a:ext cx="3584520" cy="1486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6"/>
          <p:cNvSpPr/>
          <p:nvPr/>
        </p:nvSpPr>
        <p:spPr>
          <a:xfrm>
            <a:off x="804600" y="35053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pri kotrljanju manja je nego pri kliza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ležaj"/>
          <p:cNvPicPr/>
          <p:nvPr/>
        </p:nvPicPr>
        <p:blipFill>
          <a:blip r:embed="rId3"/>
          <a:stretch/>
        </p:blipFill>
        <p:spPr>
          <a:xfrm>
            <a:off x="990720" y="41148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7"/>
          <p:cNvSpPr/>
          <p:nvPr/>
        </p:nvSpPr>
        <p:spPr>
          <a:xfrm>
            <a:off x="3102840" y="5672160"/>
            <a:ext cx="21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uglični ležaj smanjuje tr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težin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221080" y="266688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razmjern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6095880" y="4038480"/>
                <a:ext cx="1524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4086360" cy="3162600"/>
          </a:xfrm>
          <a:prstGeom prst="rect">
            <a:avLst/>
          </a:prstGeom>
          <a:ln w="0">
            <a:noFill/>
          </a:ln>
        </p:spPr>
      </p:pic>
      <p:pic>
        <p:nvPicPr>
          <p:cNvPr id="529" name="Slika 2" descr=""/>
          <p:cNvPicPr/>
          <p:nvPr/>
        </p:nvPicPr>
        <p:blipFill>
          <a:blip r:embed="rId2"/>
          <a:stretch/>
        </p:blipFill>
        <p:spPr>
          <a:xfrm>
            <a:off x="152280" y="91116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ploštini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624040" y="5562720"/>
            <a:ext cx="59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ovisi o ploštini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07000" cy="3124080"/>
          </a:xfrm>
          <a:prstGeom prst="rect">
            <a:avLst/>
          </a:prstGeom>
          <a:ln w="0">
            <a:noFill/>
          </a:ln>
        </p:spPr>
      </p:pic>
      <p:pic>
        <p:nvPicPr>
          <p:cNvPr id="533" name="Slika 1" descr=""/>
          <p:cNvPicPr/>
          <p:nvPr/>
        </p:nvPicPr>
        <p:blipFill>
          <a:blip r:embed="rId2"/>
          <a:stretch/>
        </p:blipFill>
        <p:spPr>
          <a:xfrm>
            <a:off x="228600" y="890640"/>
            <a:ext cx="13287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sile trenja o hrapavosti dodirnih povr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4707360" y="3048120"/>
            <a:ext cx="382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to veća što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dirne plohe hrapav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429000" cy="4113360"/>
          </a:xfrm>
          <a:prstGeom prst="rect">
            <a:avLst/>
          </a:prstGeom>
          <a:ln w="0">
            <a:noFill/>
          </a:ln>
        </p:spPr>
      </p:pic>
      <p:pic>
        <p:nvPicPr>
          <p:cNvPr id="537" name="Slika 1" descr=""/>
          <p:cNvPicPr/>
          <p:nvPr/>
        </p:nvPicPr>
        <p:blipFill>
          <a:blip r:embed="rId2"/>
          <a:stretch/>
        </p:blipFill>
        <p:spPr>
          <a:xfrm>
            <a:off x="228600" y="874800"/>
            <a:ext cx="13287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Zakon t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228600" y="1305000"/>
            <a:ext cx="8839080" cy="1739880"/>
          </a:xfrm>
          <a:prstGeom prst="rect">
            <a:avLst/>
          </a:prstGeom>
          <a:solidFill>
            <a:srgbClr val="dbeef4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renja ovisi o težini tijela i hrapavosti podloge ,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e ovisi o veličini dodirnih površina.  Na horizontalnoj podlozi jednaka je umnošku faktora trenja i težine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3306600" y="3286080"/>
                <a:ext cx="2171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5"/>
          <p:cNvSpPr/>
          <p:nvPr/>
        </p:nvSpPr>
        <p:spPr>
          <a:xfrm>
            <a:off x="736560" y="4500720"/>
            <a:ext cx="528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aktor trenja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čitamo: mi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 omjer između sile trenja i tež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visi o vrsti materijala dodirnih p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5:15Z</dcterms:modified>
  <cp:revision>51</cp:revision>
  <dc:subject/>
  <dc:title>Slide 1</dc:title>
</cp:coreProperties>
</file>